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wmf" ContentType="image/x-wmf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10688638" cy="756285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768240" y="744120"/>
            <a:ext cx="5261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B3CB0F16-3B4C-47B3-AEB7-4EC3CF8C09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1040" cy="37227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1DDF1106-EC5A-4F47-9C4D-D37BDDF1D1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1040" cy="3722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31B082EE-0F6C-46B4-9F71-6970F0E5F7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47480" y="477720"/>
            <a:ext cx="9839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7480" y="4603320"/>
            <a:ext cx="983916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489280" y="226044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474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489280" y="4603320"/>
            <a:ext cx="480132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77424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101000" y="226044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4748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77424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7101000" y="4603320"/>
            <a:ext cx="3168000" cy="213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8920" y="474840"/>
            <a:ext cx="9837720" cy="1503360"/>
          </a:xfrm>
          <a:prstGeom prst="rect">
            <a:avLst/>
          </a:prstGeom>
          <a:solidFill>
            <a:srgbClr val="6bbbae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8920" y="2412720"/>
            <a:ext cx="9837720" cy="456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3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379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Прямоугольник 7"/>
          <p:cNvSpPr/>
          <p:nvPr/>
        </p:nvSpPr>
        <p:spPr>
          <a:xfrm>
            <a:off x="0" y="0"/>
            <a:ext cx="10688760" cy="756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7"/>
          <p:cNvSpPr/>
          <p:nvPr/>
        </p:nvSpPr>
        <p:spPr>
          <a:xfrm>
            <a:off x="439560" y="804960"/>
            <a:ext cx="9838080" cy="6300720"/>
          </a:xfrm>
          <a:custGeom>
            <a:avLst/>
            <a:gdLst/>
            <a:ahLst/>
            <a:rect l="l" t="t" r="r" b="b"/>
            <a:pathLst>
              <a:path w="9758223" h="6280264">
                <a:moveTo>
                  <a:pt x="9758223" y="6280264"/>
                </a:moveTo>
                <a:lnTo>
                  <a:pt x="0" y="6280264"/>
                </a:lnTo>
                <a:lnTo>
                  <a:pt x="0" y="0"/>
                </a:lnTo>
                <a:lnTo>
                  <a:pt x="9758223" y="0"/>
                </a:lnTo>
                <a:lnTo>
                  <a:pt x="9758223" y="6280264"/>
                </a:lnTo>
              </a:path>
            </a:pathLst>
          </a:custGeom>
          <a:solidFill>
            <a:srgbClr val="ff585d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28" descr="oschad-01.jpg"/>
          <p:cNvPicPr/>
          <p:nvPr/>
        </p:nvPicPr>
        <p:blipFill>
          <a:blip r:embed="rId3"/>
          <a:stretch/>
        </p:blipFill>
        <p:spPr>
          <a:xfrm>
            <a:off x="1417680" y="396720"/>
            <a:ext cx="1617480" cy="8146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9"/>
          <p:cNvSpPr/>
          <p:nvPr/>
        </p:nvSpPr>
        <p:spPr>
          <a:xfrm>
            <a:off x="1448640" y="6649920"/>
            <a:ext cx="8892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1137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краткая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верс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"/>
          <p:cNvSpPr/>
          <p:nvPr/>
        </p:nvSpPr>
        <p:spPr>
          <a:xfrm>
            <a:off x="3003120" y="6649920"/>
            <a:ext cx="12535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1137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киев,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март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201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год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solidFill>
            <a:srgbClr val="fdaa63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425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3"/>
          <p:cNvSpPr/>
          <p:nvPr/>
        </p:nvSpPr>
        <p:spPr>
          <a:xfrm>
            <a:off x="449280" y="439560"/>
            <a:ext cx="9837720" cy="6669360"/>
          </a:xfrm>
          <a:custGeom>
            <a:avLst/>
            <a:gdLst/>
            <a:ahLst/>
            <a:rect l="l" t="t" r="r" b="b"/>
            <a:pathLst>
              <a:path w="9758223" h="6626035">
                <a:moveTo>
                  <a:pt x="9758223" y="6626035"/>
                </a:moveTo>
                <a:lnTo>
                  <a:pt x="0" y="6626035"/>
                </a:lnTo>
                <a:lnTo>
                  <a:pt x="0" y="0"/>
                </a:lnTo>
                <a:lnTo>
                  <a:pt x="9758223" y="0"/>
                </a:lnTo>
                <a:lnTo>
                  <a:pt x="9758223" y="6626035"/>
                </a:lnTo>
              </a:path>
            </a:pathLst>
          </a:custGeom>
          <a:solidFill>
            <a:srgbClr val="6bbbae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1"/>
          <p:cNvSpPr/>
          <p:nvPr/>
        </p:nvSpPr>
        <p:spPr>
          <a:xfrm>
            <a:off x="1544040" y="2408400"/>
            <a:ext cx="52815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разделительный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811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слайд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solidFill>
            <a:srgbClr val="fdaa63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465120"/>
            <a:ext cx="9837720" cy="1509840"/>
          </a:xfrm>
          <a:prstGeom prst="rect">
            <a:avLst/>
          </a:prstGeom>
          <a:solidFill>
            <a:srgbClr val="92c1e9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2508120"/>
            <a:ext cx="9829800" cy="4486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44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8920" y="469800"/>
            <a:ext cx="9837720" cy="150840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7080" y="2334960"/>
            <a:ext cx="9529920" cy="4484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spcBef>
                <a:spcPts val="37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4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85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solidFill>
            <a:srgbClr val="fdaa63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5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126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7480" y="477720"/>
            <a:ext cx="9839160" cy="1508400"/>
          </a:xfrm>
          <a:prstGeom prst="rect">
            <a:avLst/>
          </a:prstGeom>
          <a:solidFill>
            <a:srgbClr val="fdaa63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7480" y="2260440"/>
            <a:ext cx="9839160" cy="4484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6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167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206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8920" y="474840"/>
            <a:ext cx="9837720" cy="1503360"/>
          </a:xfrm>
          <a:prstGeom prst="rect">
            <a:avLst/>
          </a:prstGeom>
          <a:solidFill>
            <a:srgbClr val="6bbbae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48920" y="2412720"/>
            <a:ext cx="9837720" cy="456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247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449280" y="439560"/>
            <a:ext cx="9837720" cy="6669360"/>
          </a:xfrm>
          <a:custGeom>
            <a:avLst/>
            <a:gdLst/>
            <a:ahLst/>
            <a:rect l="l" t="t" r="r" b="b"/>
            <a:pathLst>
              <a:path w="9758223" h="6626035">
                <a:moveTo>
                  <a:pt x="9758223" y="6626035"/>
                </a:moveTo>
                <a:lnTo>
                  <a:pt x="0" y="6626035"/>
                </a:lnTo>
                <a:lnTo>
                  <a:pt x="0" y="0"/>
                </a:lnTo>
                <a:lnTo>
                  <a:pt x="9758223" y="0"/>
                </a:lnTo>
                <a:lnTo>
                  <a:pt x="9758223" y="6626035"/>
                </a:lnTo>
              </a:path>
            </a:pathLst>
          </a:custGeom>
          <a:solidFill>
            <a:srgbClr val="92c1e9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1544040" y="2408400"/>
            <a:ext cx="52815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разделительный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811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слайд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65120"/>
            <a:ext cx="9837720" cy="1509840"/>
          </a:xfrm>
          <a:prstGeom prst="rect">
            <a:avLst/>
          </a:prstGeom>
          <a:solidFill>
            <a:srgbClr val="92c1e9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6840" y="2508120"/>
            <a:ext cx="9829800" cy="4486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846000" indent="-3254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2602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1824120" indent="-2602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2346480" indent="-2606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290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449280" y="439560"/>
            <a:ext cx="9837720" cy="6669360"/>
          </a:xfrm>
          <a:custGeom>
            <a:avLst/>
            <a:gdLst/>
            <a:ahLst/>
            <a:rect l="l" t="t" r="r" b="b"/>
            <a:pathLst>
              <a:path w="9758223" h="6626035">
                <a:moveTo>
                  <a:pt x="9758223" y="6626035"/>
                </a:moveTo>
                <a:lnTo>
                  <a:pt x="0" y="6626035"/>
                </a:lnTo>
                <a:lnTo>
                  <a:pt x="0" y="0"/>
                </a:lnTo>
                <a:lnTo>
                  <a:pt x="9758223" y="0"/>
                </a:lnTo>
                <a:lnTo>
                  <a:pt x="9758223" y="6626035"/>
                </a:lnTo>
              </a:path>
            </a:pathLst>
          </a:custGeom>
          <a:solidFill>
            <a:srgbClr val="ff585d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1544040" y="2408400"/>
            <a:ext cx="52815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разделительный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811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слайд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8920" y="469800"/>
            <a:ext cx="9837720" cy="150840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7080" y="2334960"/>
            <a:ext cx="9529920" cy="4484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spcBef>
                <a:spcPts val="37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2" descr="oschad-01.jpg"/>
          <p:cNvPicPr/>
          <p:nvPr/>
        </p:nvPicPr>
        <p:blipFill>
          <a:blip r:embed="rId2"/>
          <a:stretch/>
        </p:blipFill>
        <p:spPr>
          <a:xfrm>
            <a:off x="9348840" y="7091280"/>
            <a:ext cx="938160" cy="471600"/>
          </a:xfrm>
          <a:prstGeom prst="rect">
            <a:avLst/>
          </a:prstGeom>
          <a:ln w="0">
            <a:noFill/>
          </a:ln>
        </p:spPr>
      </p:pic>
      <p:sp>
        <p:nvSpPr>
          <p:cNvPr id="333" name="Content Placeholder 14"/>
          <p:cNvSpPr/>
          <p:nvPr/>
        </p:nvSpPr>
        <p:spPr>
          <a:xfrm>
            <a:off x="757080" y="7194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Киев,  март  2015  года</a:t>
            </a:r>
            <a:r>
              <a:rPr b="0" lang="ru-RU" sz="900" spc="-1" strike="noStrike">
                <a:solidFill>
                  <a:srgbClr val="7f7f7f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tent Placeholder 14"/>
          <p:cNvSpPr/>
          <p:nvPr/>
        </p:nvSpPr>
        <p:spPr>
          <a:xfrm>
            <a:off x="3637080" y="7194600"/>
            <a:ext cx="2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rebuchet MS"/>
                <a:ea typeface="Arial"/>
              </a:rPr>
              <a:t>Стратегия  развития  Ощадбан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7"/>
          <p:cNvSpPr/>
          <p:nvPr/>
        </p:nvSpPr>
        <p:spPr>
          <a:xfrm>
            <a:off x="0" y="0"/>
            <a:ext cx="10688760" cy="756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7"/>
          <p:cNvSpPr/>
          <p:nvPr/>
        </p:nvSpPr>
        <p:spPr>
          <a:xfrm>
            <a:off x="439560" y="804960"/>
            <a:ext cx="9838080" cy="6300720"/>
          </a:xfrm>
          <a:custGeom>
            <a:avLst/>
            <a:gdLst/>
            <a:ahLst/>
            <a:rect l="l" t="t" r="r" b="b"/>
            <a:pathLst>
              <a:path w="9758223" h="6280264">
                <a:moveTo>
                  <a:pt x="9758223" y="6280264"/>
                </a:moveTo>
                <a:lnTo>
                  <a:pt x="0" y="6280264"/>
                </a:lnTo>
                <a:lnTo>
                  <a:pt x="0" y="0"/>
                </a:lnTo>
                <a:lnTo>
                  <a:pt x="9758223" y="0"/>
                </a:lnTo>
                <a:lnTo>
                  <a:pt x="9758223" y="6280264"/>
                </a:lnTo>
              </a:path>
            </a:pathLst>
          </a:custGeom>
          <a:solidFill>
            <a:srgbClr val="ff585d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8" descr="oschad-01.jpg"/>
          <p:cNvPicPr/>
          <p:nvPr/>
        </p:nvPicPr>
        <p:blipFill>
          <a:blip r:embed="rId3"/>
          <a:stretch/>
        </p:blipFill>
        <p:spPr>
          <a:xfrm>
            <a:off x="1417680" y="396720"/>
            <a:ext cx="1617480" cy="814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9"/>
          <p:cNvSpPr/>
          <p:nvPr/>
        </p:nvSpPr>
        <p:spPr>
          <a:xfrm>
            <a:off x="1448640" y="6649920"/>
            <a:ext cx="8892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1137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краткая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верс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"/>
          <p:cNvSpPr/>
          <p:nvPr/>
        </p:nvSpPr>
        <p:spPr>
          <a:xfrm>
            <a:off x="3003120" y="6649920"/>
            <a:ext cx="12535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52200" anchor="t">
            <a:spAutoFit/>
          </a:bodyPr>
          <a:p>
            <a:pPr>
              <a:lnSpc>
                <a:spcPts val="1137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киев,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март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201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год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8920" y="469800"/>
            <a:ext cx="9837720" cy="150840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57080" y="2334960"/>
            <a:ext cx="9529920" cy="4484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spcBef>
                <a:spcPts val="37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i&amp;rct=j&amp;q=&amp;esrc=s&amp;frm=1&amp;source=images&amp;cd=&amp;cad=rja&amp;uact=8&amp;ved=0CAcQjRw&amp;url=http%3A%2F%2Fhotroom.com.ua%2Fsas%2F151-tverdotoplivnyy-kotel-sas-uwg.html&amp;ei=rIdMVfe_OMWPU4q9gcgK&amp;bvm=bv.92765956,d.d24&amp;psig=AFQjCNH03os-cP-ZlVwWYFCzEfkju0erxg&amp;ust=1431165204904056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1204920" y="1767960"/>
            <a:ext cx="8228160" cy="4264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4600" spc="-1" strike="noStrike">
                <a:solidFill>
                  <a:srgbClr val="ffffff"/>
                </a:solidFill>
                <a:latin typeface="Trebuchet MS"/>
              </a:rPr>
              <a:t>запровадження регіональних програм енергоефективності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4600" spc="-1" strike="noStrike">
                <a:solidFill>
                  <a:srgbClr val="ffffff"/>
                </a:solidFill>
                <a:latin typeface="Trebuchet MS"/>
              </a:rPr>
              <a:t>за участі АТ «Ощадбанк»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Прямоугольник 3"/>
          <p:cNvSpPr/>
          <p:nvPr/>
        </p:nvSpPr>
        <p:spPr>
          <a:xfrm>
            <a:off x="1390680" y="6603840"/>
            <a:ext cx="3240000" cy="23112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900" spc="-1" strike="noStrike">
                <a:solidFill>
                  <a:srgbClr val="ffffff"/>
                </a:solidFill>
                <a:latin typeface="Trebuchet MS"/>
              </a:rPr>
              <a:t>Київ   травень  2015 рі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8920" y="474840"/>
            <a:ext cx="9837720" cy="150336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宋体"/>
              </a:rPr>
              <a:t>стримуючі фактори, що вплинули на реалізацію діючого механізму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Название 2"/>
          <p:cNvSpPr/>
          <p:nvPr/>
        </p:nvSpPr>
        <p:spPr>
          <a:xfrm>
            <a:off x="452520" y="474840"/>
            <a:ext cx="9834480" cy="1508040"/>
          </a:xfrm>
          <a:prstGeom prst="rect">
            <a:avLst/>
          </a:prstGeom>
          <a:solidFill>
            <a:srgbClr val="fdaa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 marL="291960" indent="-144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宋体"/>
              </a:rPr>
              <a:t>вигода від запровадження регіональних прогр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5"/>
          <p:cNvSpPr/>
          <p:nvPr/>
        </p:nvSpPr>
        <p:spPr>
          <a:xfrm>
            <a:off x="3662280" y="2454120"/>
            <a:ext cx="66373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потенційний ріст попиту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на енергозберігаючі заходи в регіон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зменшення споживанн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MS PGothic"/>
              </a:rPr>
              <a:t>  паливно-енергетичних ресурсів  населення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зменшення обсягу субсидій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 для населення за спожиту енергі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сприяння розвитку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галузі енергоефективного будівництва  та реконструкції в регіон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забезпечення умов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 щодо виявлення та залучення вітчизняних і іноземних інвестиці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2" descr="C:\Users\ShmatSV\Desktop\74248689-galocka.jpg"/>
          <p:cNvPicPr/>
          <p:nvPr/>
        </p:nvPicPr>
        <p:blipFill>
          <a:blip r:embed="rId1"/>
          <a:stretch/>
        </p:blipFill>
        <p:spPr>
          <a:xfrm>
            <a:off x="160200" y="2290680"/>
            <a:ext cx="3603600" cy="34117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5"/>
          <p:cNvSpPr/>
          <p:nvPr/>
        </p:nvSpPr>
        <p:spPr>
          <a:xfrm>
            <a:off x="652320" y="7148520"/>
            <a:ext cx="496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1363680" y="2044440"/>
            <a:ext cx="7873920" cy="3824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4600" spc="-1" strike="noStrike">
                <a:solidFill>
                  <a:srgbClr val="ffffff"/>
                </a:solidFill>
                <a:latin typeface="Trebuchet MS"/>
              </a:rPr>
              <a:t>Дякуємо за увагу!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115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TextBox 2"/>
          <p:cNvSpPr/>
          <p:nvPr/>
        </p:nvSpPr>
        <p:spPr>
          <a:xfrm>
            <a:off x="749160" y="6607080"/>
            <a:ext cx="5004000" cy="26136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5"/>
          <p:cNvSpPr/>
          <p:nvPr/>
        </p:nvSpPr>
        <p:spPr>
          <a:xfrm>
            <a:off x="452520" y="7191360"/>
            <a:ext cx="50036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  <a:ea typeface="MS PGothic"/>
              </a:rPr>
              <a:t>Київ  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8920" y="474480"/>
            <a:ext cx="9837720" cy="1377720"/>
          </a:xfrm>
          <a:prstGeom prst="rect">
            <a:avLst/>
          </a:prstGeom>
          <a:solidFill>
            <a:srgbClr val="6bbbae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</a:rPr>
              <a:t>мета програми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78" name="Picture 3" descr="C:\Users\ShmatSV\Desktop\-e1429277716412-1170x350.jpg"/>
          <p:cNvPicPr/>
          <p:nvPr/>
        </p:nvPicPr>
        <p:blipFill>
          <a:blip r:embed="rId1"/>
          <a:srcRect l="0" t="0" r="21863" b="0"/>
          <a:stretch/>
        </p:blipFill>
        <p:spPr>
          <a:xfrm>
            <a:off x="449280" y="1852560"/>
            <a:ext cx="9837720" cy="5106960"/>
          </a:xfrm>
          <a:prstGeom prst="rect">
            <a:avLst/>
          </a:prstGeom>
          <a:ln w="0">
            <a:noFill/>
          </a:ln>
        </p:spPr>
      </p:pic>
      <p:sp>
        <p:nvSpPr>
          <p:cNvPr id="479" name="TextBox 24"/>
          <p:cNvSpPr/>
          <p:nvPr/>
        </p:nvSpPr>
        <p:spPr>
          <a:xfrm>
            <a:off x="5681520" y="2139840"/>
            <a:ext cx="446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rebuchet MS"/>
              </a:rPr>
              <a:t>Підтримка стратегічної ме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rebuchet MS"/>
              </a:rPr>
              <a:t>держави - енергетично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rebuchet MS"/>
              </a:rPr>
              <a:t>незалежності Украї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26"/>
          <p:cNvSpPr/>
          <p:nvPr/>
        </p:nvSpPr>
        <p:spPr>
          <a:xfrm>
            <a:off x="3987720" y="3498840"/>
            <a:ext cx="87994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заміщення споживання газ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розвиток відновлювальної енергет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підвищення ефективності використа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паливно-енергетичних ресурсі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00"/>
                </a:solidFill>
                <a:latin typeface="Calibri"/>
              </a:rPr>
              <a:t>розвиток культури енергоспожива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4896000" y="71024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Скругленный прямоугольник 7"/>
          <p:cNvSpPr/>
          <p:nvPr/>
        </p:nvSpPr>
        <p:spPr>
          <a:xfrm>
            <a:off x="450720" y="2097000"/>
            <a:ext cx="9834840" cy="9302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2520" y="474840"/>
            <a:ext cx="9834480" cy="150336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</a:rPr>
              <a:t>державна програма компенсації частини суми кредиту на придбання енергоефективних товарів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452520" y="7191360"/>
            <a:ext cx="50036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  <a:ea typeface="MS PGothic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Прямоугольник 8"/>
          <p:cNvSpPr/>
          <p:nvPr/>
        </p:nvSpPr>
        <p:spPr>
          <a:xfrm>
            <a:off x="843120" y="1952640"/>
            <a:ext cx="90500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680" rIns="4068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231f20"/>
                </a:solidFill>
                <a:latin typeface="Trebuchet MS"/>
                <a:ea typeface="Arial"/>
              </a:rPr>
              <a:t>Постанова Кабінету Міністрів України від 08.04.2015 р. № 2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rebuchet MS"/>
                <a:ea typeface="Arial"/>
              </a:rPr>
              <a:t>(вступила в дію 06.05.2015 р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25"/>
          <p:cNvSpPr/>
          <p:nvPr/>
        </p:nvSpPr>
        <p:spPr>
          <a:xfrm>
            <a:off x="8850240" y="588816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rebuchet MS"/>
              </a:rPr>
              <a:t>40%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32"/>
          <p:cNvSpPr/>
          <p:nvPr/>
        </p:nvSpPr>
        <p:spPr>
          <a:xfrm rot="19989600">
            <a:off x="8584920" y="3939840"/>
            <a:ext cx="20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(макс. 5 000 грн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Овал 33"/>
          <p:cNvSpPr/>
          <p:nvPr/>
        </p:nvSpPr>
        <p:spPr>
          <a:xfrm>
            <a:off x="8908920" y="5778360"/>
            <a:ext cx="995400" cy="927360"/>
          </a:xfrm>
          <a:prstGeom prst="ellipse">
            <a:avLst/>
          </a:prstGeom>
          <a:noFill/>
          <a:ln w="19080">
            <a:solidFill>
              <a:srgbClr val="95c1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452520" y="3174840"/>
            <a:ext cx="28591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490" name="Овал 44"/>
          <p:cNvGrpSpPr/>
          <p:nvPr/>
        </p:nvGrpSpPr>
        <p:grpSpPr>
          <a:xfrm>
            <a:off x="2498760" y="5089680"/>
            <a:ext cx="914400" cy="963360"/>
            <a:chOff x="2498760" y="5089680"/>
            <a:chExt cx="914400" cy="963360"/>
          </a:xfrm>
        </p:grpSpPr>
        <p:pic>
          <p:nvPicPr>
            <p:cNvPr id="491" name="Овал 44" descr=""/>
            <p:cNvPicPr/>
            <p:nvPr/>
          </p:nvPicPr>
          <p:blipFill>
            <a:blip r:embed="rId2"/>
            <a:stretch/>
          </p:blipFill>
          <p:spPr>
            <a:xfrm>
              <a:off x="2498760" y="5089680"/>
              <a:ext cx="91440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639880" y="5240160"/>
              <a:ext cx="62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3" name="Прямоугольник 4"/>
          <p:cNvSpPr/>
          <p:nvPr/>
        </p:nvSpPr>
        <p:spPr>
          <a:xfrm>
            <a:off x="554040" y="3533760"/>
            <a:ext cx="2400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Держав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фінансуванн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f2f2f2"/>
                </a:solidFill>
                <a:latin typeface="Trebuchet MS"/>
              </a:rPr>
              <a:t>на </a:t>
            </a:r>
            <a:r>
              <a:rPr b="1" lang="uk-UA" sz="2000" spc="-1" strike="noStrike">
                <a:solidFill>
                  <a:srgbClr val="f2f2f2"/>
                </a:solidFill>
                <a:latin typeface="Trebuchet MS"/>
              </a:rPr>
              <a:t>2015</a:t>
            </a:r>
            <a:r>
              <a:rPr b="1" lang="uk-UA" sz="1800" spc="-1" strike="noStrike">
                <a:solidFill>
                  <a:srgbClr val="f2f2f2"/>
                </a:solidFill>
                <a:latin typeface="Trebuchet MS"/>
              </a:rPr>
              <a:t> рік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Trebuchet MS"/>
              </a:rPr>
              <a:t>343,5</a:t>
            </a:r>
            <a:r>
              <a:rPr b="1" lang="uk-UA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uk-UA" sz="2200" spc="-1" strike="noStrike">
                <a:solidFill>
                  <a:srgbClr val="ffffff"/>
                </a:solidFill>
                <a:latin typeface="Trebuchet MS"/>
              </a:rPr>
              <a:t>млн.гр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оугольник 6"/>
          <p:cNvSpPr/>
          <p:nvPr/>
        </p:nvSpPr>
        <p:spPr>
          <a:xfrm>
            <a:off x="3581280" y="3243240"/>
            <a:ext cx="58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mbria"/>
              </a:rPr>
              <a:t>Відшкодування суми кредиту на придбанн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mbria"/>
              </a:rPr>
              <a:t>котла альтернативного газовому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47,5 млн. гр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оугольник 47"/>
          <p:cNvSpPr/>
          <p:nvPr/>
        </p:nvSpPr>
        <p:spPr>
          <a:xfrm>
            <a:off x="3560760" y="4525920"/>
            <a:ext cx="55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mbria"/>
              </a:rPr>
              <a:t>Відшкодування суми кредиту на придбання інших енергозберігаючих товарів –</a:t>
            </a:r>
            <a:r>
              <a:rPr b="0" lang="uk-UA" sz="18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198 млн. гр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48"/>
          <p:cNvSpPr/>
          <p:nvPr/>
        </p:nvSpPr>
        <p:spPr>
          <a:xfrm>
            <a:off x="8872560" y="4613400"/>
            <a:ext cx="11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rebuchet MS"/>
              </a:rPr>
              <a:t>30%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Овал 49"/>
          <p:cNvSpPr/>
          <p:nvPr/>
        </p:nvSpPr>
        <p:spPr>
          <a:xfrm>
            <a:off x="8902800" y="3139920"/>
            <a:ext cx="996840" cy="927360"/>
          </a:xfrm>
          <a:prstGeom prst="ellipse">
            <a:avLst/>
          </a:prstGeom>
          <a:noFill/>
          <a:ln w="19080">
            <a:solidFill>
              <a:srgbClr val="95c1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Овал 50"/>
          <p:cNvSpPr/>
          <p:nvPr/>
        </p:nvSpPr>
        <p:spPr>
          <a:xfrm>
            <a:off x="8908920" y="4471920"/>
            <a:ext cx="995400" cy="927000"/>
          </a:xfrm>
          <a:prstGeom prst="ellipse">
            <a:avLst/>
          </a:prstGeom>
          <a:noFill/>
          <a:ln w="19080">
            <a:solidFill>
              <a:srgbClr val="95c1e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51"/>
          <p:cNvSpPr/>
          <p:nvPr/>
        </p:nvSpPr>
        <p:spPr>
          <a:xfrm>
            <a:off x="8893080" y="3243240"/>
            <a:ext cx="12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rebuchet MS"/>
              </a:rPr>
              <a:t>20%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52"/>
          <p:cNvSpPr/>
          <p:nvPr/>
        </p:nvSpPr>
        <p:spPr>
          <a:xfrm rot="19989600">
            <a:off x="8589600" y="5279760"/>
            <a:ext cx="20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(макс. 10 000 грн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оугольник 1"/>
          <p:cNvSpPr/>
          <p:nvPr/>
        </p:nvSpPr>
        <p:spPr>
          <a:xfrm>
            <a:off x="3472920" y="5888160"/>
            <a:ext cx="46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mbria"/>
              </a:rPr>
              <a:t>Відшкодування суми кредиту ОСББ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97,9 млн. гр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53"/>
          <p:cNvSpPr/>
          <p:nvPr/>
        </p:nvSpPr>
        <p:spPr>
          <a:xfrm rot="19989600">
            <a:off x="8583480" y="6535800"/>
            <a:ext cx="206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(макс. 10 000 грн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2"/>
          <p:cNvSpPr/>
          <p:nvPr/>
        </p:nvSpPr>
        <p:spPr>
          <a:xfrm>
            <a:off x="606600" y="5059440"/>
            <a:ext cx="16858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Trebuchet MS"/>
              </a:rPr>
              <a:t>Охоплення населенн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Trebuchet MS"/>
              </a:rPr>
              <a:t>134 тис. сім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21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8920" y="474840"/>
            <a:ext cx="9837720" cy="1503360"/>
          </a:xfrm>
          <a:prstGeom prst="rect">
            <a:avLst/>
          </a:prstGeom>
          <a:solidFill>
            <a:srgbClr val="6bbbae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</a:rPr>
              <a:t>учасники програми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06" name="Объект 6" descr=""/>
          <p:cNvPicPr/>
          <p:nvPr/>
        </p:nvPicPr>
        <p:blipFill>
          <a:blip r:embed="rId1"/>
          <a:stretch/>
        </p:blipFill>
        <p:spPr>
          <a:xfrm>
            <a:off x="438120" y="2097000"/>
            <a:ext cx="9858240" cy="3359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Users\ShmatSV\Desktop\773.png"/>
          <p:cNvPicPr/>
          <p:nvPr/>
        </p:nvPicPr>
        <p:blipFill>
          <a:blip r:embed="rId2"/>
          <a:stretch/>
        </p:blipFill>
        <p:spPr>
          <a:xfrm>
            <a:off x="7515360" y="422928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1"/>
          <p:cNvSpPr/>
          <p:nvPr/>
        </p:nvSpPr>
        <p:spPr>
          <a:xfrm>
            <a:off x="320760" y="5753160"/>
            <a:ext cx="1017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700" spc="-1" strike="noStrike">
                <a:solidFill>
                  <a:srgbClr val="0066ff"/>
                </a:solidFill>
                <a:latin typeface="Calibri"/>
              </a:rPr>
              <a:t>Відшкодування по державній програмі здійснюється виключно у випадку придбання товару в креди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2"/>
          <p:cNvSpPr/>
          <p:nvPr/>
        </p:nvSpPr>
        <p:spPr>
          <a:xfrm>
            <a:off x="452520" y="6210360"/>
            <a:ext cx="9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Приєднавшись до нас, Ви можете зробити кредит ще більш доступни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1"/>
          <p:cNvSpPr/>
          <p:nvPr/>
        </p:nvSpPr>
        <p:spPr>
          <a:xfrm>
            <a:off x="652320" y="7148520"/>
            <a:ext cx="496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7"/>
          <p:cNvSpPr/>
          <p:nvPr/>
        </p:nvSpPr>
        <p:spPr>
          <a:xfrm>
            <a:off x="5002200" y="708336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5"/>
          <p:cNvSpPr/>
          <p:nvPr/>
        </p:nvSpPr>
        <p:spPr>
          <a:xfrm>
            <a:off x="711360" y="7153200"/>
            <a:ext cx="50036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Заголовок 1"/>
          <p:cNvSpPr/>
          <p:nvPr/>
        </p:nvSpPr>
        <p:spPr>
          <a:xfrm>
            <a:off x="503280" y="270000"/>
            <a:ext cx="9837720" cy="95220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 marL="291960" indent="-1080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Arial"/>
              </a:rPr>
              <a:t>досвід реалізації державної прогр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15" descr="C:\Users\ShmatSV\Desktop\74248689-galocka.jpg"/>
          <p:cNvPicPr/>
          <p:nvPr/>
        </p:nvPicPr>
        <p:blipFill>
          <a:blip r:embed="rId1"/>
          <a:stretch/>
        </p:blipFill>
        <p:spPr>
          <a:xfrm>
            <a:off x="1344600" y="1563840"/>
            <a:ext cx="1595520" cy="15951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3"/>
          <p:cNvSpPr/>
          <p:nvPr/>
        </p:nvSpPr>
        <p:spPr>
          <a:xfrm>
            <a:off x="3062160" y="2066760"/>
            <a:ext cx="275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rebuchet MS"/>
              </a:rPr>
              <a:t>Стрімкий ріст</a:t>
            </a:r>
            <a:r>
              <a:rPr b="1" lang="uk-UA" sz="20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rebuchet MS"/>
              </a:rPr>
              <a:t>попи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1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Группа 21"/>
          <p:cNvGrpSpPr/>
          <p:nvPr/>
        </p:nvGrpSpPr>
        <p:grpSpPr>
          <a:xfrm>
            <a:off x="1684440" y="1432080"/>
            <a:ext cx="7954920" cy="5578200"/>
            <a:chOff x="1684440" y="1432080"/>
            <a:chExt cx="7954920" cy="5578200"/>
          </a:xfrm>
        </p:grpSpPr>
        <p:pic>
          <p:nvPicPr>
            <p:cNvPr id="518" name="Диаграмма 22" descr=""/>
            <p:cNvPicPr/>
            <p:nvPr/>
          </p:nvPicPr>
          <p:blipFill>
            <a:blip r:embed="rId2"/>
            <a:stretch/>
          </p:blipFill>
          <p:spPr>
            <a:xfrm>
              <a:off x="1684440" y="1432080"/>
              <a:ext cx="7954920" cy="55782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19" name="Скругленная соединительная линия 15"/>
            <p:cNvCxnSpPr/>
            <p:nvPr/>
          </p:nvCxnSpPr>
          <p:spPr>
            <a:xfrm flipV="1">
              <a:off x="4736160" y="2543040"/>
              <a:ext cx="2894400" cy="1124640"/>
            </a:xfrm>
            <a:prstGeom prst="curvedConnector5">
              <a:avLst>
                <a:gd name="adj1" fmla="val 49993"/>
                <a:gd name="adj2" fmla="val 49983"/>
                <a:gd name="adj3" fmla="val 49993"/>
              </a:avLst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20" name="TextBox 27"/>
            <p:cNvSpPr/>
            <p:nvPr/>
          </p:nvSpPr>
          <p:spPr>
            <a:xfrm>
              <a:off x="5174640" y="2336400"/>
              <a:ext cx="13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20560"/>
                  <a:tab algn="l" pos="1041480"/>
                  <a:tab algn="l" pos="1562040"/>
                  <a:tab algn="l" pos="2082960"/>
                  <a:tab algn="l" pos="2603520"/>
                  <a:tab algn="l" pos="3124080"/>
                  <a:tab algn="l" pos="3645000"/>
                  <a:tab algn="l" pos="4165560"/>
                  <a:tab algn="l" pos="4686480"/>
                  <a:tab algn="l" pos="5207040"/>
                  <a:tab algn="l" pos="5727600"/>
                  <a:tab algn="l" pos="6248520"/>
                  <a:tab algn="l" pos="6769080"/>
                  <a:tab algn="l" pos="7289640"/>
                  <a:tab algn="l" pos="7810560"/>
                  <a:tab algn="l" pos="8331120"/>
                  <a:tab algn="l" pos="8852040"/>
                  <a:tab algn="l" pos="9372600"/>
                  <a:tab algn="l" pos="9893160"/>
                  <a:tab algn="l" pos="1041408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  <a:ea typeface="MS PGothic"/>
                </a:rPr>
                <a:t>+</a:t>
              </a:r>
              <a:r>
                <a:rPr b="1" lang="uk-UA" sz="1600" spc="-1" strike="noStrike">
                  <a:solidFill>
                    <a:srgbClr val="c00000"/>
                  </a:solidFill>
                  <a:latin typeface="Calibri"/>
                  <a:ea typeface="MS PGothic"/>
                </a:rPr>
                <a:t>78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8920" y="474840"/>
            <a:ext cx="9837720" cy="150336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</a:rPr>
              <a:t>підтримка місцевою владою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522" name="Объект 7"/>
          <p:cNvGraphicFramePr/>
          <p:nvPr/>
        </p:nvGraphicFramePr>
        <p:xfrm>
          <a:off x="565200" y="2171880"/>
          <a:ext cx="5406840" cy="468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3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2171880"/>
                    <a:ext cx="540684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TextBox 8"/>
          <p:cNvSpPr/>
          <p:nvPr/>
        </p:nvSpPr>
        <p:spPr>
          <a:xfrm>
            <a:off x="5510160" y="3048120"/>
            <a:ext cx="48830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З 2006 року в області діє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alibri"/>
                <a:ea typeface="Arial"/>
              </a:rPr>
              <a:t>Програма енергозбереження для населення Львівщин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компенсація проценті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за кредитом до </a:t>
            </a:r>
            <a:r>
              <a:rPr b="1" lang="uk-UA" sz="2400" spc="-1" strike="noStrike">
                <a:solidFill>
                  <a:srgbClr val="c00000"/>
                </a:solidFill>
                <a:latin typeface="Calibri"/>
                <a:ea typeface="Arial"/>
              </a:rPr>
              <a:t>20% річних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 з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рахунок коштів обласного бюдже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4"/>
          <p:cNvSpPr/>
          <p:nvPr/>
        </p:nvSpPr>
        <p:spPr>
          <a:xfrm>
            <a:off x="652320" y="7148520"/>
            <a:ext cx="496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Заголовок 1"/>
          <p:cNvSpPr/>
          <p:nvPr/>
        </p:nvSpPr>
        <p:spPr>
          <a:xfrm>
            <a:off x="509760" y="341280"/>
            <a:ext cx="9837720" cy="1108080"/>
          </a:xfrm>
          <a:prstGeom prst="rect">
            <a:avLst/>
          </a:prstGeom>
          <a:solidFill>
            <a:srgbClr val="95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 marL="29196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Arial"/>
              </a:rPr>
              <a:t>умови кредитування на придбання енергозберігаючого обладнання та матеріалі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Прямоугольник 16"/>
          <p:cNvSpPr/>
          <p:nvPr/>
        </p:nvSpPr>
        <p:spPr>
          <a:xfrm>
            <a:off x="933480" y="1714680"/>
            <a:ext cx="878832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Початковий внесок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– від 10 % вартості товар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alibri"/>
                <a:ea typeface="MS PGothic"/>
              </a:rPr>
              <a:t>C</a:t>
            </a:r>
            <a:r>
              <a:rPr b="1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трок кредитування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– до 3 років для населення та до 5 – для ОСБ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Процентна ставка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25 % річни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Разова комісія за надання кредиту</a:t>
            </a:r>
            <a:r>
              <a:rPr b="0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– 3 % від суми креди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alibri"/>
                <a:ea typeface="MS PGothic"/>
              </a:rPr>
              <a:t>Форма кредитування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S PGothic"/>
              </a:rPr>
              <a:t>– кредит або кредитна ліні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4"/>
          <p:cNvSpPr/>
          <p:nvPr/>
        </p:nvSpPr>
        <p:spPr>
          <a:xfrm>
            <a:off x="749160" y="7153200"/>
            <a:ext cx="50040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Прямоугольник 1"/>
          <p:cNvSpPr/>
          <p:nvPr/>
        </p:nvSpPr>
        <p:spPr>
          <a:xfrm>
            <a:off x="895680" y="4822920"/>
            <a:ext cx="81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700" spc="-1" strike="noStrike">
                <a:solidFill>
                  <a:srgbClr val="00b050"/>
                </a:solidFill>
                <a:latin typeface="Cambria"/>
              </a:rPr>
              <a:t>Кредитування в рамках програми здійсню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700" spc="-1" strike="noStrike">
                <a:solidFill>
                  <a:srgbClr val="00b050"/>
                </a:solidFill>
                <a:latin typeface="Cambria"/>
              </a:rPr>
              <a:t> </a:t>
            </a:r>
            <a:r>
              <a:rPr b="1" lang="uk-UA" sz="2700" spc="-1" strike="noStrike">
                <a:solidFill>
                  <a:srgbClr val="00b050"/>
                </a:solidFill>
                <a:latin typeface="Cambria"/>
              </a:rPr>
              <a:t>понад 520 установ банк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5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48920" y="474480"/>
            <a:ext cx="9837720" cy="90324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txBody>
          <a:bodyPr lIns="104400" rIns="104400" tIns="52200" bIns="52200" anchor="ctr">
            <a:noAutofit/>
          </a:bodyPr>
          <a:p>
            <a:pPr marL="291960"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宋体"/>
              </a:rPr>
              <a:t>стримуючі фактори, що вплинули на реалізацію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Название 2"/>
          <p:cNvSpPr/>
          <p:nvPr/>
        </p:nvSpPr>
        <p:spPr>
          <a:xfrm>
            <a:off x="452520" y="474840"/>
            <a:ext cx="9834480" cy="903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 marL="291960" indent="-144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宋体"/>
              </a:rPr>
              <a:t>економія населення за рахунок прогр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2" descr="http://hotroom.com.ua/280-large/tverdotoplivnyy-kotel-sas-uw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8960" y="1695600"/>
            <a:ext cx="1687680" cy="18126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C:\Users\ShmatSV\Desktop\solar_place.jpg"/>
          <p:cNvPicPr/>
          <p:nvPr/>
        </p:nvPicPr>
        <p:blipFill>
          <a:blip r:embed="rId3"/>
          <a:stretch/>
        </p:blipFill>
        <p:spPr>
          <a:xfrm>
            <a:off x="4935600" y="1592280"/>
            <a:ext cx="1687320" cy="16873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" descr="C:\Users\ShmatSV\Desktop\enbra_voda.jpg"/>
          <p:cNvPicPr/>
          <p:nvPr/>
        </p:nvPicPr>
        <p:blipFill>
          <a:blip r:embed="rId4"/>
          <a:srcRect l="0" t="3686" r="0" b="0"/>
          <a:stretch/>
        </p:blipFill>
        <p:spPr>
          <a:xfrm>
            <a:off x="4842000" y="3059280"/>
            <a:ext cx="1876320" cy="1218960"/>
          </a:xfrm>
          <a:prstGeom prst="rect">
            <a:avLst/>
          </a:prstGeom>
          <a:ln w="0">
            <a:noFill/>
          </a:ln>
        </p:spPr>
      </p:pic>
      <p:sp>
        <p:nvSpPr>
          <p:cNvPr id="537" name="TextBox 7"/>
          <p:cNvSpPr/>
          <p:nvPr/>
        </p:nvSpPr>
        <p:spPr>
          <a:xfrm>
            <a:off x="5997600" y="2597040"/>
            <a:ext cx="428940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100" spc="-1" strike="noStrike" u="sng">
                <a:solidFill>
                  <a:srgbClr val="77933c"/>
                </a:solidFill>
                <a:uFillTx/>
                <a:latin typeface="Trebuchet MS"/>
              </a:rPr>
              <a:t>при купівлі обладнання/ матеріалі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вартість товару - 300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сума кредиту – 270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rebuchet MS"/>
                <a:ea typeface="Trebuchet MS"/>
              </a:rPr>
              <a:t>сума відшкодування – 81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сума процентів за 3 роки – 7369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rebuchet MS"/>
                <a:ea typeface="Trebuchet MS"/>
              </a:rPr>
              <a:t>економія на сплаті процентів у зв’язку з отриманням відшкодуванням - до 3038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Прямоугольник 6"/>
          <p:cNvSpPr/>
          <p:nvPr/>
        </p:nvSpPr>
        <p:spPr>
          <a:xfrm>
            <a:off x="758880" y="2749680"/>
            <a:ext cx="427680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100" spc="-1" strike="noStrike">
                <a:solidFill>
                  <a:srgbClr val="77933c"/>
                </a:solidFill>
                <a:latin typeface="Trebuchet MS"/>
              </a:rPr>
              <a:t>   </a:t>
            </a:r>
            <a:r>
              <a:rPr b="1" lang="uk-UA" sz="2100" spc="-1" strike="noStrike" u="sng">
                <a:solidFill>
                  <a:srgbClr val="77933c"/>
                </a:solidFill>
                <a:uFillTx/>
                <a:latin typeface="Trebuchet MS"/>
              </a:rPr>
              <a:t>при</a:t>
            </a:r>
            <a:r>
              <a:rPr b="1" lang="uk-UA" sz="2400" spc="-1" strike="noStrike" u="sng">
                <a:solidFill>
                  <a:srgbClr val="77933c"/>
                </a:solidFill>
                <a:uFillTx/>
                <a:latin typeface="Trebuchet MS"/>
              </a:rPr>
              <a:t> </a:t>
            </a:r>
            <a:r>
              <a:rPr b="1" lang="uk-UA" sz="2100" spc="-1" strike="noStrike" u="sng">
                <a:solidFill>
                  <a:srgbClr val="77933c"/>
                </a:solidFill>
                <a:uFillTx/>
                <a:latin typeface="Trebuchet MS"/>
              </a:rPr>
              <a:t>купівлі котл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в</a:t>
            </a:r>
            <a:r>
              <a:rPr b="1" lang="uk-UA" sz="1800" spc="-1" strike="noStrike">
                <a:solidFill>
                  <a:srgbClr val="17375e"/>
                </a:solidFill>
                <a:latin typeface="Trebuchet MS"/>
              </a:rPr>
              <a:t>арті</a:t>
            </a: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сть котла - 200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сума кредиту – 180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rebuchet MS"/>
                <a:ea typeface="Trebuchet MS"/>
              </a:rPr>
              <a:t>сума відшкодування – 360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Trebuchet MS"/>
                <a:ea typeface="Trebuchet MS"/>
              </a:rPr>
              <a:t>сума процентів за 3 роки – 5587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rebuchet MS"/>
                <a:ea typeface="Trebuchet MS"/>
              </a:rPr>
              <a:t>економія на сплаті процентів при отриманні відшкодування -              до 1350 гр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8"/>
          <p:cNvSpPr/>
          <p:nvPr/>
        </p:nvSpPr>
        <p:spPr>
          <a:xfrm>
            <a:off x="652320" y="7148520"/>
            <a:ext cx="496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азвание 2"/>
          <p:cNvSpPr/>
          <p:nvPr/>
        </p:nvSpPr>
        <p:spPr>
          <a:xfrm>
            <a:off x="452520" y="379440"/>
            <a:ext cx="9834480" cy="754200"/>
          </a:xfrm>
          <a:prstGeom prst="rect">
            <a:avLst/>
          </a:prstGeom>
          <a:solidFill>
            <a:srgbClr val="ff58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 marL="291960" indent="-144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rebuchet MS"/>
                <a:ea typeface="Arial"/>
              </a:rPr>
              <a:t>фактори успіху програми та приєднання до не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652320" y="7196040"/>
            <a:ext cx="496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Київ   травень  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7"/>
          <p:cNvSpPr/>
          <p:nvPr/>
        </p:nvSpPr>
        <p:spPr>
          <a:xfrm>
            <a:off x="4984920" y="708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Схема 3" descr=""/>
          <p:cNvPicPr/>
          <p:nvPr/>
        </p:nvPicPr>
        <p:blipFill>
          <a:blip r:embed="rId1"/>
          <a:stretch/>
        </p:blipFill>
        <p:spPr>
          <a:xfrm>
            <a:off x="476280" y="1225440"/>
            <a:ext cx="9807480" cy="572940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6"/>
          <p:cNvSpPr/>
          <p:nvPr/>
        </p:nvSpPr>
        <p:spPr>
          <a:xfrm>
            <a:off x="652320" y="1473120"/>
            <a:ext cx="569880" cy="525960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Прямоугольник 10"/>
          <p:cNvSpPr/>
          <p:nvPr/>
        </p:nvSpPr>
        <p:spPr>
          <a:xfrm>
            <a:off x="5370480" y="1235160"/>
            <a:ext cx="4783320" cy="33156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rebuchet MS"/>
              </a:rPr>
              <a:t>НЕОБХІДНІ ДІЇ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4:55:54Z</dcterms:created>
  <dc:creator>Lesya Leshchenko</dc:creator>
  <dc:description/>
  <dc:language>en-US</dc:language>
  <cp:lastModifiedBy>Шмат Світлана Володимирівна</cp:lastModifiedBy>
  <cp:lastPrinted>2015-05-21T12:19:22Z</cp:lastPrinted>
  <dcterms:modified xsi:type="dcterms:W3CDTF">2015-05-21T13:34:03Z</dcterms:modified>
  <cp:revision>373</cp:revision>
  <dc:subject/>
  <dc:title>Презентация PowerPoint</dc:title>
</cp:coreProperties>
</file>