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0688638" cy="756285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768240" y="744120"/>
            <a:ext cx="5261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FA54B6BA-7802-4E5F-BE89-D6378CABD2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104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144EF8B8-A4CB-4DE8-B1AC-AEBBEA102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1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C3FFAE0A-CCAF-43AE-8B8E-57EE51A15B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2412720"/>
            <a:ext cx="9837720" cy="456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79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7"/>
          <p:cNvSpPr/>
          <p:nvPr/>
        </p:nvSpPr>
        <p:spPr>
          <a:xfrm>
            <a:off x="0" y="0"/>
            <a:ext cx="10688760" cy="756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7"/>
          <p:cNvSpPr/>
          <p:nvPr/>
        </p:nvSpPr>
        <p:spPr>
          <a:xfrm>
            <a:off x="439560" y="804960"/>
            <a:ext cx="9838080" cy="6300720"/>
          </a:xfrm>
          <a:custGeom>
            <a:avLst/>
            <a:gdLst/>
            <a:ahLst/>
            <a:rect l="l" t="t" r="r" b="b"/>
            <a:pathLst>
              <a:path w="9758223" h="6280264">
                <a:moveTo>
                  <a:pt x="9758223" y="6280264"/>
                </a:moveTo>
                <a:lnTo>
                  <a:pt x="0" y="6280264"/>
                </a:lnTo>
                <a:lnTo>
                  <a:pt x="0" y="0"/>
                </a:lnTo>
                <a:lnTo>
                  <a:pt x="9758223" y="0"/>
                </a:lnTo>
                <a:lnTo>
                  <a:pt x="9758223" y="6280264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8" descr="oschad-01.jpg"/>
          <p:cNvPicPr/>
          <p:nvPr/>
        </p:nvPicPr>
        <p:blipFill>
          <a:blip r:embed="rId3"/>
          <a:stretch/>
        </p:blipFill>
        <p:spPr>
          <a:xfrm>
            <a:off x="1417680" y="396720"/>
            <a:ext cx="1617480" cy="814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9"/>
          <p:cNvSpPr/>
          <p:nvPr/>
        </p:nvSpPr>
        <p:spPr>
          <a:xfrm>
            <a:off x="1448640" y="6649920"/>
            <a:ext cx="889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раткая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верс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3003120" y="6649920"/>
            <a:ext cx="1253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иев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март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201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год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425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6bbbae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9837720" cy="1509840"/>
          </a:xfrm>
          <a:prstGeom prst="rect">
            <a:avLst/>
          </a:prstGeom>
          <a:solidFill>
            <a:srgbClr val="92c1e9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2508120"/>
            <a:ext cx="9829800" cy="4486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44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4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85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6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06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48920" y="2412720"/>
            <a:ext cx="9837720" cy="456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47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92c1e9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9837720" cy="1509840"/>
          </a:xfrm>
          <a:prstGeom prst="rect">
            <a:avLst/>
          </a:prstGeom>
          <a:solidFill>
            <a:srgbClr val="92c1e9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6840" y="2508120"/>
            <a:ext cx="9829800" cy="4486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90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33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0" y="0"/>
            <a:ext cx="10688760" cy="756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7"/>
          <p:cNvSpPr/>
          <p:nvPr/>
        </p:nvSpPr>
        <p:spPr>
          <a:xfrm>
            <a:off x="439560" y="804960"/>
            <a:ext cx="9838080" cy="6300720"/>
          </a:xfrm>
          <a:custGeom>
            <a:avLst/>
            <a:gdLst/>
            <a:ahLst/>
            <a:rect l="l" t="t" r="r" b="b"/>
            <a:pathLst>
              <a:path w="9758223" h="6280264">
                <a:moveTo>
                  <a:pt x="9758223" y="6280264"/>
                </a:moveTo>
                <a:lnTo>
                  <a:pt x="0" y="6280264"/>
                </a:lnTo>
                <a:lnTo>
                  <a:pt x="0" y="0"/>
                </a:lnTo>
                <a:lnTo>
                  <a:pt x="9758223" y="0"/>
                </a:lnTo>
                <a:lnTo>
                  <a:pt x="9758223" y="6280264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8" descr="oschad-01.jpg"/>
          <p:cNvPicPr/>
          <p:nvPr/>
        </p:nvPicPr>
        <p:blipFill>
          <a:blip r:embed="rId3"/>
          <a:stretch/>
        </p:blipFill>
        <p:spPr>
          <a:xfrm>
            <a:off x="1417680" y="396720"/>
            <a:ext cx="1617480" cy="814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9"/>
          <p:cNvSpPr/>
          <p:nvPr/>
        </p:nvSpPr>
        <p:spPr>
          <a:xfrm>
            <a:off x="1448640" y="6649920"/>
            <a:ext cx="889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раткая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верс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3003120" y="6649920"/>
            <a:ext cx="1253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иев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март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201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год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uact=8&amp;ved=0CAcQjRw&amp;url=http%3A%2F%2Fhotroom.com.ua%2Fsas%2F151-tverdotoplivnyy-kotel-sas-uwg.html&amp;ei=rIdMVfe_OMWPU4q9gcgK&amp;bvm=bv.92765956,d.d24&amp;psig=AFQjCNH03os-cP-ZlVwWYFCzEfkju0erxg&amp;ust=1431165204904056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204920" y="1767960"/>
            <a:ext cx="8228160" cy="4264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запровадження регіональних програм енергоефективності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за участі АТ «Ощадбанк»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390680" y="6603840"/>
            <a:ext cx="3240000" cy="23112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900" spc="-1" strike="noStrike">
                <a:solidFill>
                  <a:srgbClr val="ffffff"/>
                </a:solidFill>
                <a:latin typeface="Trebuchet MS"/>
              </a:rPr>
              <a:t>Київ   травень  2015 рі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стримуючі фактори, що вплинули на реалізацію діючого механізму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Название 2"/>
          <p:cNvSpPr/>
          <p:nvPr/>
        </p:nvSpPr>
        <p:spPr>
          <a:xfrm>
            <a:off x="452520" y="474840"/>
            <a:ext cx="9834480" cy="150804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вигода від запровадження регіональних про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3662280" y="2454120"/>
            <a:ext cx="66373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потенційний ріст попит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на енергозберігаючі заходи в регіон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меншення споживанн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 паливно-енергетичних ресурсів  населенн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меншення обсягу субсиді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для населення за спожиту енергі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сприяння розвитк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галузі енергоефективного будівництва  та реконструкції в регіон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абезпечення умо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щодо виявлення та залучення вітчизняних і іноземних інвестиці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C:\Users\ShmatSV\Desktop\74248689-galocka.jpg"/>
          <p:cNvPicPr/>
          <p:nvPr/>
        </p:nvPicPr>
        <p:blipFill>
          <a:blip r:embed="rId1"/>
          <a:stretch/>
        </p:blipFill>
        <p:spPr>
          <a:xfrm>
            <a:off x="160200" y="2290680"/>
            <a:ext cx="3603600" cy="34117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363680" y="2044440"/>
            <a:ext cx="7873920" cy="3824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Дякуємо за увагу!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5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749160" y="6607080"/>
            <a:ext cx="5004000" cy="261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5"/>
          <p:cNvSpPr/>
          <p:nvPr/>
        </p:nvSpPr>
        <p:spPr>
          <a:xfrm>
            <a:off x="452520" y="719136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  <a:ea typeface="MS PGothic"/>
              </a:rPr>
              <a:t>Київ  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8920" y="474480"/>
            <a:ext cx="9837720" cy="137772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мета програми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78" name="Picture 3" descr="C:\Users\ShmatSV\Desktop\-e1429277716412-1170x350.jpg"/>
          <p:cNvPicPr/>
          <p:nvPr/>
        </p:nvPicPr>
        <p:blipFill>
          <a:blip r:embed="rId1"/>
          <a:srcRect l="0" t="0" r="21863" b="0"/>
          <a:stretch/>
        </p:blipFill>
        <p:spPr>
          <a:xfrm>
            <a:off x="449280" y="1852560"/>
            <a:ext cx="9837720" cy="51069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24"/>
          <p:cNvSpPr/>
          <p:nvPr/>
        </p:nvSpPr>
        <p:spPr>
          <a:xfrm>
            <a:off x="5681520" y="213984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Підтримка стратегічної ме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держави - енергетично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незалежності Украї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3987720" y="3498840"/>
            <a:ext cx="8799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заміщення споживання газ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розвиток відновлювальної енерге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підвищення ефективності використ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паливно-енергетичних ресурсі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розвиток культури енергоспожив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4896000" y="7102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Скругленный прямоугольник 7"/>
          <p:cNvSpPr/>
          <p:nvPr/>
        </p:nvSpPr>
        <p:spPr>
          <a:xfrm>
            <a:off x="450720" y="2097000"/>
            <a:ext cx="9834840" cy="930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2520" y="474840"/>
            <a:ext cx="983448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державна програма компенсації частини суми кредиту на придбання енергоефективних товарів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452520" y="719136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  <a:ea typeface="MS PGothic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8"/>
          <p:cNvSpPr/>
          <p:nvPr/>
        </p:nvSpPr>
        <p:spPr>
          <a:xfrm>
            <a:off x="843120" y="1952640"/>
            <a:ext cx="90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231f20"/>
                </a:solidFill>
                <a:latin typeface="Trebuchet MS"/>
                <a:ea typeface="Arial"/>
              </a:rPr>
              <a:t>Постанова Кабінету Міністрів України від 08.04.2015 р. № 2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Arial"/>
              </a:rPr>
              <a:t>(вступила в дію 06.05.2015 р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5"/>
          <p:cNvSpPr/>
          <p:nvPr/>
        </p:nvSpPr>
        <p:spPr>
          <a:xfrm>
            <a:off x="8850240" y="588816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32"/>
          <p:cNvSpPr/>
          <p:nvPr/>
        </p:nvSpPr>
        <p:spPr>
          <a:xfrm rot="19989600">
            <a:off x="8584920" y="3939840"/>
            <a:ext cx="20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5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Овал 33"/>
          <p:cNvSpPr/>
          <p:nvPr/>
        </p:nvSpPr>
        <p:spPr>
          <a:xfrm>
            <a:off x="8908920" y="5778360"/>
            <a:ext cx="995400" cy="92736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452520" y="3174840"/>
            <a:ext cx="28591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490" name="Овал 44"/>
          <p:cNvGrpSpPr/>
          <p:nvPr/>
        </p:nvGrpSpPr>
        <p:grpSpPr>
          <a:xfrm>
            <a:off x="2498760" y="5089680"/>
            <a:ext cx="914400" cy="963360"/>
            <a:chOff x="2498760" y="5089680"/>
            <a:chExt cx="914400" cy="963360"/>
          </a:xfrm>
        </p:grpSpPr>
        <p:pic>
          <p:nvPicPr>
            <p:cNvPr id="491" name="Овал 44" descr=""/>
            <p:cNvPicPr/>
            <p:nvPr/>
          </p:nvPicPr>
          <p:blipFill>
            <a:blip r:embed="rId2"/>
            <a:stretch/>
          </p:blipFill>
          <p:spPr>
            <a:xfrm>
              <a:off x="2498760" y="5089680"/>
              <a:ext cx="914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639880" y="5240160"/>
              <a:ext cx="62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Прямоугольник 4"/>
          <p:cNvSpPr/>
          <p:nvPr/>
        </p:nvSpPr>
        <p:spPr>
          <a:xfrm>
            <a:off x="554040" y="3533760"/>
            <a:ext cx="2400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Держав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фінансув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2f2f2"/>
                </a:solidFill>
                <a:latin typeface="Trebuchet MS"/>
              </a:rPr>
              <a:t>на </a:t>
            </a:r>
            <a:r>
              <a:rPr b="1" lang="uk-UA" sz="2000" spc="-1" strike="noStrike">
                <a:solidFill>
                  <a:srgbClr val="f2f2f2"/>
                </a:solidFill>
                <a:latin typeface="Trebuchet MS"/>
              </a:rPr>
              <a:t>2015</a:t>
            </a:r>
            <a:r>
              <a:rPr b="1" lang="uk-UA" sz="1800" spc="-1" strike="noStrike">
                <a:solidFill>
                  <a:srgbClr val="f2f2f2"/>
                </a:solidFill>
                <a:latin typeface="Trebuchet MS"/>
              </a:rPr>
              <a:t> рік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343,5</a:t>
            </a: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млн.гр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3581280" y="3243240"/>
            <a:ext cx="58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на придб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котла альтернативного газовому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47,5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47"/>
          <p:cNvSpPr/>
          <p:nvPr/>
        </p:nvSpPr>
        <p:spPr>
          <a:xfrm>
            <a:off x="3560760" y="4525920"/>
            <a:ext cx="55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на придбання інших енергозберігаючих товарів –</a:t>
            </a:r>
            <a:r>
              <a:rPr b="0" lang="uk-UA" sz="18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198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48"/>
          <p:cNvSpPr/>
          <p:nvPr/>
        </p:nvSpPr>
        <p:spPr>
          <a:xfrm>
            <a:off x="8872560" y="4613400"/>
            <a:ext cx="11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3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Овал 49"/>
          <p:cNvSpPr/>
          <p:nvPr/>
        </p:nvSpPr>
        <p:spPr>
          <a:xfrm>
            <a:off x="8902800" y="3139920"/>
            <a:ext cx="996840" cy="92736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Овал 50"/>
          <p:cNvSpPr/>
          <p:nvPr/>
        </p:nvSpPr>
        <p:spPr>
          <a:xfrm>
            <a:off x="8908920" y="4471920"/>
            <a:ext cx="995400" cy="92700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51"/>
          <p:cNvSpPr/>
          <p:nvPr/>
        </p:nvSpPr>
        <p:spPr>
          <a:xfrm>
            <a:off x="8893080" y="324324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2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52"/>
          <p:cNvSpPr/>
          <p:nvPr/>
        </p:nvSpPr>
        <p:spPr>
          <a:xfrm rot="19989600">
            <a:off x="8589600" y="5279760"/>
            <a:ext cx="20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10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1"/>
          <p:cNvSpPr/>
          <p:nvPr/>
        </p:nvSpPr>
        <p:spPr>
          <a:xfrm>
            <a:off x="3472920" y="5888160"/>
            <a:ext cx="46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ОСББ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97,9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53"/>
          <p:cNvSpPr/>
          <p:nvPr/>
        </p:nvSpPr>
        <p:spPr>
          <a:xfrm rot="19989600">
            <a:off x="8583480" y="6535800"/>
            <a:ext cx="20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10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606600" y="5059440"/>
            <a:ext cx="16858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rebuchet MS"/>
              </a:rPr>
              <a:t>Охоплення населенн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rebuchet MS"/>
              </a:rPr>
              <a:t>134 тис. сім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1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учасники програми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06" name="Объект 6" descr=""/>
          <p:cNvPicPr/>
          <p:nvPr/>
        </p:nvPicPr>
        <p:blipFill>
          <a:blip r:embed="rId1"/>
          <a:stretch/>
        </p:blipFill>
        <p:spPr>
          <a:xfrm>
            <a:off x="438120" y="2097000"/>
            <a:ext cx="9858240" cy="3359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Users\ShmatSV\Desktop\773.png"/>
          <p:cNvPicPr/>
          <p:nvPr/>
        </p:nvPicPr>
        <p:blipFill>
          <a:blip r:embed="rId2"/>
          <a:stretch/>
        </p:blipFill>
        <p:spPr>
          <a:xfrm>
            <a:off x="7515360" y="422928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320760" y="5753160"/>
            <a:ext cx="1017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700" spc="-1" strike="noStrike">
                <a:solidFill>
                  <a:srgbClr val="0066ff"/>
                </a:solidFill>
                <a:latin typeface="Calibri"/>
              </a:rPr>
              <a:t>Відшкодування по державній програмі здійснюється виключно у випадку придбання товару в креди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452520" y="6210360"/>
            <a:ext cx="9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риєднавшись до нас, Ви можете зробити кредит ще більш доступни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5002200" y="708336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5"/>
          <p:cNvSpPr/>
          <p:nvPr/>
        </p:nvSpPr>
        <p:spPr>
          <a:xfrm>
            <a:off x="711360" y="715320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Заголовок 1"/>
          <p:cNvSpPr/>
          <p:nvPr/>
        </p:nvSpPr>
        <p:spPr>
          <a:xfrm>
            <a:off x="503280" y="270000"/>
            <a:ext cx="9837720" cy="9522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080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досвід реалізації державної прогр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15" descr="C:\Users\ShmatSV\Desktop\74248689-galocka.jpg"/>
          <p:cNvPicPr/>
          <p:nvPr/>
        </p:nvPicPr>
        <p:blipFill>
          <a:blip r:embed="rId1"/>
          <a:stretch/>
        </p:blipFill>
        <p:spPr>
          <a:xfrm>
            <a:off x="1344600" y="1563840"/>
            <a:ext cx="1595520" cy="15951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3"/>
          <p:cNvSpPr/>
          <p:nvPr/>
        </p:nvSpPr>
        <p:spPr>
          <a:xfrm>
            <a:off x="3062160" y="2066760"/>
            <a:ext cx="275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rebuchet MS"/>
              </a:rPr>
              <a:t>Стрімкий ріст</a:t>
            </a:r>
            <a:r>
              <a:rPr b="1" lang="uk-UA" sz="20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rebuchet MS"/>
              </a:rPr>
              <a:t>попи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1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Группа 21"/>
          <p:cNvGrpSpPr/>
          <p:nvPr/>
        </p:nvGrpSpPr>
        <p:grpSpPr>
          <a:xfrm>
            <a:off x="1684440" y="1432080"/>
            <a:ext cx="7954920" cy="5578200"/>
            <a:chOff x="1684440" y="1432080"/>
            <a:chExt cx="7954920" cy="5578200"/>
          </a:xfrm>
        </p:grpSpPr>
        <p:pic>
          <p:nvPicPr>
            <p:cNvPr id="518" name="Диаграмма 22" descr=""/>
            <p:cNvPicPr/>
            <p:nvPr/>
          </p:nvPicPr>
          <p:blipFill>
            <a:blip r:embed="rId2"/>
            <a:stretch/>
          </p:blipFill>
          <p:spPr>
            <a:xfrm>
              <a:off x="1684440" y="1432080"/>
              <a:ext cx="7954920" cy="5578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19" name="Скругленная соединительная линия 15"/>
            <p:cNvCxnSpPr/>
            <p:nvPr/>
          </p:nvCxnSpPr>
          <p:spPr>
            <a:xfrm flipV="1">
              <a:off x="4736160" y="2543040"/>
              <a:ext cx="2894400" cy="1124640"/>
            </a:xfrm>
            <a:prstGeom prst="curvedConnector5">
              <a:avLst>
                <a:gd name="adj1" fmla="val 49993"/>
                <a:gd name="adj2" fmla="val 49983"/>
                <a:gd name="adj3" fmla="val 49993"/>
              </a:avLst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20" name="TextBox 27"/>
            <p:cNvSpPr/>
            <p:nvPr/>
          </p:nvSpPr>
          <p:spPr>
            <a:xfrm>
              <a:off x="5174640" y="23364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20560"/>
                  <a:tab algn="l" pos="1041480"/>
                  <a:tab algn="l" pos="1562040"/>
                  <a:tab algn="l" pos="2082960"/>
                  <a:tab algn="l" pos="2603520"/>
                  <a:tab algn="l" pos="3124080"/>
                  <a:tab algn="l" pos="3645000"/>
                  <a:tab algn="l" pos="4165560"/>
                  <a:tab algn="l" pos="4686480"/>
                  <a:tab algn="l" pos="5207040"/>
                  <a:tab algn="l" pos="5727600"/>
                  <a:tab algn="l" pos="6248520"/>
                  <a:tab algn="l" pos="6769080"/>
                  <a:tab algn="l" pos="7289640"/>
                  <a:tab algn="l" pos="7810560"/>
                  <a:tab algn="l" pos="8331120"/>
                  <a:tab algn="l" pos="8852040"/>
                  <a:tab algn="l" pos="9372600"/>
                  <a:tab algn="l" pos="9893160"/>
                  <a:tab algn="l" pos="1041408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  <a:ea typeface="MS PGothic"/>
                </a:rPr>
                <a:t>+</a:t>
              </a:r>
              <a:r>
                <a:rPr b="1" lang="uk-UA" sz="1600" spc="-1" strike="noStrike">
                  <a:solidFill>
                    <a:srgbClr val="c00000"/>
                  </a:solidFill>
                  <a:latin typeface="Calibri"/>
                  <a:ea typeface="MS PGothic"/>
                </a:rPr>
                <a:t>78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підтримка місцевою владою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522" name="Объект 7"/>
          <p:cNvGraphicFramePr/>
          <p:nvPr/>
        </p:nvGraphicFramePr>
        <p:xfrm>
          <a:off x="565200" y="2171880"/>
          <a:ext cx="5406840" cy="468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3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2171880"/>
                    <a:ext cx="54068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8"/>
          <p:cNvSpPr/>
          <p:nvPr/>
        </p:nvSpPr>
        <p:spPr>
          <a:xfrm>
            <a:off x="5510160" y="3048120"/>
            <a:ext cx="48830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З 2006 року в області діє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alibri"/>
                <a:ea typeface="Arial"/>
              </a:rPr>
              <a:t>Програма енергозбереження для населення Львівщин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компенсація проценті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за кредитом до </a:t>
            </a:r>
            <a:r>
              <a:rPr b="1" lang="uk-UA" sz="2400" spc="-1" strike="noStrike">
                <a:solidFill>
                  <a:srgbClr val="c00000"/>
                </a:solidFill>
                <a:latin typeface="Calibri"/>
                <a:ea typeface="Arial"/>
              </a:rPr>
              <a:t>20% річни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 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рахунок коштів обласного бюдж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Заголовок 1"/>
          <p:cNvSpPr/>
          <p:nvPr/>
        </p:nvSpPr>
        <p:spPr>
          <a:xfrm>
            <a:off x="509760" y="341280"/>
            <a:ext cx="9837720" cy="1108080"/>
          </a:xfrm>
          <a:prstGeom prst="rect">
            <a:avLst/>
          </a:prstGeom>
          <a:solidFill>
            <a:srgbClr val="95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умови кредитування на придбання енергозберігаючого обладнання та матеріалі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ик 16"/>
          <p:cNvSpPr/>
          <p:nvPr/>
        </p:nvSpPr>
        <p:spPr>
          <a:xfrm>
            <a:off x="933480" y="1714680"/>
            <a:ext cx="878832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Початковий внесок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від 10 % вартості товар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  <a:ea typeface="MS PGothic"/>
              </a:rPr>
              <a:t>C</a:t>
            </a: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трок кредитування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до 3 років для населення та до 5 – для ОСБ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Процентна ставк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25 % річн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Разова комісія за надання кредиту</a:t>
            </a:r>
            <a:r>
              <a:rPr b="0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3 % від суми креди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кредитування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кредит або кредитна лін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749160" y="7153200"/>
            <a:ext cx="50040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1"/>
          <p:cNvSpPr/>
          <p:nvPr/>
        </p:nvSpPr>
        <p:spPr>
          <a:xfrm>
            <a:off x="895680" y="4822920"/>
            <a:ext cx="81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Кредитування в рамках програми здійсню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 </a:t>
            </a: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понад 520 установ банк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8920" y="474480"/>
            <a:ext cx="9837720" cy="90324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стримуючі фактори, що вплинули на реалізацію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Название 2"/>
          <p:cNvSpPr/>
          <p:nvPr/>
        </p:nvSpPr>
        <p:spPr>
          <a:xfrm>
            <a:off x="452520" y="474840"/>
            <a:ext cx="9834480" cy="903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економія населення за рахунок прог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2" descr="http://hotroom.com.ua/280-large/tverdotoplivnyy-kotel-sas-uw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8960" y="1695600"/>
            <a:ext cx="1687680" cy="18126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C:\Users\ShmatSV\Desktop\solar_place.jpg"/>
          <p:cNvPicPr/>
          <p:nvPr/>
        </p:nvPicPr>
        <p:blipFill>
          <a:blip r:embed="rId3"/>
          <a:stretch/>
        </p:blipFill>
        <p:spPr>
          <a:xfrm>
            <a:off x="4935600" y="1592280"/>
            <a:ext cx="1687320" cy="1687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C:\Users\ShmatSV\Desktop\enbra_voda.jpg"/>
          <p:cNvPicPr/>
          <p:nvPr/>
        </p:nvPicPr>
        <p:blipFill>
          <a:blip r:embed="rId4"/>
          <a:srcRect l="0" t="3686" r="0" b="0"/>
          <a:stretch/>
        </p:blipFill>
        <p:spPr>
          <a:xfrm>
            <a:off x="4842000" y="3059280"/>
            <a:ext cx="1876320" cy="12189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7"/>
          <p:cNvSpPr/>
          <p:nvPr/>
        </p:nvSpPr>
        <p:spPr>
          <a:xfrm>
            <a:off x="5997600" y="2597040"/>
            <a:ext cx="42894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при купівлі обладнання/ матеріалі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вартість товару - 30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кредиту – 27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сума відшкодування – 81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процентів за 3 роки – 7369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економія на сплаті процентів у зв’язку з отриманням відшкодуванням - до 3038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Прямоугольник 6"/>
          <p:cNvSpPr/>
          <p:nvPr/>
        </p:nvSpPr>
        <p:spPr>
          <a:xfrm>
            <a:off x="758880" y="2749680"/>
            <a:ext cx="427680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100" spc="-1" strike="noStrike">
                <a:solidFill>
                  <a:srgbClr val="77933c"/>
                </a:solidFill>
                <a:latin typeface="Trebuchet MS"/>
              </a:rPr>
              <a:t>   </a:t>
            </a: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при</a:t>
            </a:r>
            <a:r>
              <a:rPr b="1" lang="uk-UA" sz="2400" spc="-1" strike="noStrike" u="sng">
                <a:solidFill>
                  <a:srgbClr val="77933c"/>
                </a:solidFill>
                <a:uFillTx/>
                <a:latin typeface="Trebuchet MS"/>
              </a:rPr>
              <a:t> </a:t>
            </a: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купівлі котл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в</a:t>
            </a:r>
            <a:r>
              <a:rPr b="1" lang="uk-UA" sz="1800" spc="-1" strike="noStrike">
                <a:solidFill>
                  <a:srgbClr val="17375e"/>
                </a:solidFill>
                <a:latin typeface="Trebuchet MS"/>
              </a:rPr>
              <a:t>арті</a:t>
            </a: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ть котла - 20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кредиту – 18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сума відшкодування – 36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процентів за 3 роки – 5587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економія на сплаті процентів при отриманні відшкодування -              до 135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8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азвание 2"/>
          <p:cNvSpPr/>
          <p:nvPr/>
        </p:nvSpPr>
        <p:spPr>
          <a:xfrm>
            <a:off x="452520" y="379440"/>
            <a:ext cx="9834480" cy="7542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фактори успіху програми та приєднання до не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652320" y="719604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Схема 3" descr=""/>
          <p:cNvPicPr/>
          <p:nvPr/>
        </p:nvPicPr>
        <p:blipFill>
          <a:blip r:embed="rId1"/>
          <a:stretch/>
        </p:blipFill>
        <p:spPr>
          <a:xfrm>
            <a:off x="476280" y="1225440"/>
            <a:ext cx="9807480" cy="57294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6"/>
          <p:cNvSpPr/>
          <p:nvPr/>
        </p:nvSpPr>
        <p:spPr>
          <a:xfrm>
            <a:off x="652320" y="1473120"/>
            <a:ext cx="569880" cy="52596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Прямоугольник 10"/>
          <p:cNvSpPr/>
          <p:nvPr/>
        </p:nvSpPr>
        <p:spPr>
          <a:xfrm>
            <a:off x="5370480" y="1235160"/>
            <a:ext cx="4783320" cy="33156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НЕОБХІДНІ ДІЇ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4:55:54Z</dcterms:created>
  <dc:creator>Lesya Leshchenko</dc:creator>
  <dc:description/>
  <dc:language>en-US</dc:language>
  <cp:lastModifiedBy>Шмат Світлана Володимирівна</cp:lastModifiedBy>
  <cp:lastPrinted>2015-05-21T12:19:22Z</cp:lastPrinted>
  <dcterms:modified xsi:type="dcterms:W3CDTF">2015-05-21T13:34:03Z</dcterms:modified>
  <cp:revision>373</cp:revision>
  <dc:subject/>
  <dc:title>Презентация PowerPoint</dc:title>
</cp:coreProperties>
</file>